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BF6-200F-4603-8E57-96A78C1E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F08-6274-448A-A048-AA31ED38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BF4-3657-48D5-9DFB-09B791F5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356-BDDA-475C-B7B7-947D1CB6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3841-1955-4910-BF33-2316D517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F161-7344-43B2-B4BB-1CC8F92F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DC6B-F000-45D2-A47F-B33BFF03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6554-DEBB-48FB-A8B3-3D7F07C9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DD1E-61D1-40AD-BA86-EDAF1ACB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4EC4-57A9-447A-B4C5-2165AB5F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42EC-1722-40B0-89DB-73A12EB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8C2-E905-4E0D-92B5-7914C85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9EA3-8EDA-439A-956C-3C93FF59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2B06-FDF4-4D37-92A5-621DA10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763C-00F2-4417-B6C1-2E2846FF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4B7F-4BE5-48AB-A835-E5C09DDC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3BF6-3CB0-4243-995F-C6F98726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825-9BAA-4164-B912-2B0505A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B53-F182-40D7-B7B6-E27B2A64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1E5-70AE-482A-B46F-DC125FD8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BA0-8951-4BAC-87FA-3E418C18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E0B-4308-4CEF-884F-F627042C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3B0-EB64-4F2E-AB31-5DDCC412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ACC-39D1-4345-860D-268D4AB0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015-9C74-4105-A3FC-8E9C6B550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827D-6E7B-4F54-A8E9-D5F5D3238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gdickins@odu.edu" TargetMode="External"/><Relationship Id="rId2" Type="http://schemas.openxmlformats.org/officeDocument/2006/relationships/hyperlink" Target="mailto:bstripling@schools.nyc.gov" TargetMode="Externa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a.org/ala/aasl/aaslproftools/learningstandards/standards.cfm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LMS Leadership Ret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ugust 3-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Four parts of each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kil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k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Key abilities needed for understanding, learning, thinking, and mastering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Multiple 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oci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Inquir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ent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0880" y="1986120"/>
            <a:ext cx="267336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41590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Ongoing beliefs and attitudes that guide thinking and intellectual behavior that can be measured through actions ta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Imag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lf-evalu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776840" y="1600200"/>
            <a:ext cx="3821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mmon behaviors used by independent learners in researching, investigating,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Follow ethical &amp; leg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principals of Intellectu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ursue multiple perspectives &amp; balance of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actice saf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ribute to the exchange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ideas &amp; experience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5146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flections on one’s own learning to determine that the skills, dispositions, and responsibilities a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cesse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duct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Three-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Sum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3809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ub-categories that describe what abilities students should demonstrate within each of the four strands of each stand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76520"/>
          <a:ext cx="8001000" cy="29988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5791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bilities students should demonstrate by the end of grades 2, 5, 8, 10 &amp; 12+ for each indic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il Dickinson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1"/>
              </a:rPr>
              <a:t>gdickins@odu.edu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Papyrus"/>
              </a:rPr>
              <a:t>Barbara Stripling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2"/>
              </a:rPr>
              <a:t>bstripling@schools.nyc.go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85800" y="1828800"/>
          <a:ext cx="8001000" cy="42814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Grade 5 Benchmark: Follow a process whenever pursuing new information through inquiry or resear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ALA | AASL Standards for the 21st-Century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0292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Se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Lesson:  Standards 3 &amp;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ossible Un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unit o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through high school unit on theme of belonging and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Book discussion group for elementary through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ecision:  Book discussion group to introduce concepts of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Standard 3: 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: 3.1.2: Participate and collaborate as members of a social and intellectual network of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position in Action 3.2.2: Show social responsibility by participating actively with others in learning situations and by contributing questions and ideas during group discu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 4: </a:t>
            </a: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 4.1.1: Read, view, and listen for pleasure and personal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onsibility: 4.3.1 Participate in the social exchange of ideas, both electronically and in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Contribution to Group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is the main idea that I contributed to the group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two ideas from others caused me to rethink my own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How did I help the group reach consen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did I do to make sure that the group discussion included and respected all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ick one unit currently being done in your school that would be a good opportunity for integration of a skill, disposition, a responsibility, and/or a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Learning Standards define what we expect students to be able to do as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31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ment of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Use the Lesson Plan Template to design a lesson to teach a skill within your un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You may also decide to include a disposition, responsibility, or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(You may copy the template onto chart pap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725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Presenting the Standards to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ibr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trict/B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chool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egis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ofessional Ass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op Te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897280" y="1371600"/>
            <a:ext cx="343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ing An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Use Action Plan Grid to help you focus on what will be your first three actions to implement the new standards in your school or other work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11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apyrus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o forth and spread the word of the AASL National Standards for the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-Century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uidelines define what an exemplary school library media program look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5867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Read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Foundation of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858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2:40:54Z</dcterms:created>
  <dc:creator>au</dc:creator>
  <dc:description/>
  <dc:language>en-US</dc:language>
  <cp:lastModifiedBy>Barbara Stripling</cp:lastModifiedBy>
  <dcterms:modified xsi:type="dcterms:W3CDTF">2008-07-13T00:53:19Z</dcterms:modified>
  <cp:revision>15</cp:revision>
  <dc:subject/>
  <dc:title>Slide 1</dc:title>
</cp:coreProperties>
</file>